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8.jpeg" ContentType="image/jpeg"/>
  <Override PartName="/ppt/media/image17.wmf" ContentType="image/x-wmf"/>
  <Override PartName="/ppt/media/image15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6.png" ContentType="image/png"/>
  <Override PartName="/ppt/media/image10.wmf" ContentType="image/x-wmf"/>
  <Override PartName="/ppt/media/image8.png" ContentType="image/png"/>
  <Override PartName="/ppt/media/image16.wmf" ContentType="image/x-wm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641-EBDE-4244-9336-12AB353D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936-36B3-460B-8B56-D246FDB4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DC0-0A81-49D6-B070-7AE28832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238-D4F3-44D3-A506-9B2D4DF7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1AE0-F2A0-4B56-A3A6-EE90813F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AA87-4913-49A4-AA68-FFDBB6DB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F967-A4C9-44DF-8674-A4D2C77F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C032-249E-4454-A6A2-30632F79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F9D0-8169-421F-B62A-3E18BA04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FEEA-A767-4B52-8987-CDFAE8F0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C6BC-9B8F-4D60-8001-291412DE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32F-D5A9-417A-B308-271FE4DE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2233-A277-4C20-A8B3-0C6ECF7C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30DC-AF4B-4BE7-B30A-BABD2197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B2A3-88AA-4C00-B61F-D9E89D63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2B4B-B0E2-4825-8D7F-0BB34BDB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351D-437A-4F1F-9108-E57F398E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293-04BD-4009-ABBA-D68D11CF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2FA-BDAD-48B1-B7DF-8ACAC202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289-D047-44F4-B6E7-36CAEC79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8A7-0C26-4E22-8DCE-EEAA4011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7D2-2046-4C5D-B33B-4E79D56A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0FF1-8F95-4326-BF16-6B330370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75F-DB10-4A54-A555-574C3E56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0B55-AAD7-466C-BBD9-E40B48464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9F72-CC85-4528-9F80-4F5085A6506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11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ergy in Thermal Proce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James Prescott Jou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18 – 188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tish physic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of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ship between heat and other forms of energy transf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1030" descr="11p353"/>
          <p:cNvPicPr/>
          <p:nvPr/>
        </p:nvPicPr>
        <p:blipFill>
          <a:blip r:embed="rId1"/>
          <a:stretch/>
        </p:blipFill>
        <p:spPr>
          <a:xfrm>
            <a:off x="5265720" y="2017800"/>
            <a:ext cx="3567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cific He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ery substance requires a unique amount of energy per unit mass to change the temperature of that substance by 1° 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pecific heat, c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substance is a measure of this amou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209680" y="5105520"/>
                <a:ext cx="19051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ts of Specific He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 un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 / kg °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storical un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 / g °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eat and Specific He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 = m c Δ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ΔT is always the final temperature minus the initial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temperature increases, ΔT and ΔQ are considered to be positive and energy flows into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temperature decreases, ΔT and ΔQ are considered to be negative and energy flows out of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 Consequence of Different Specific Hea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ter has a high specific heat compared to 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a hot day, the air above the land warms fa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rmer air flows upward and cooler air moves toward the be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1102"/>
          <p:cNvPicPr/>
          <p:nvPr/>
        </p:nvPicPr>
        <p:blipFill>
          <a:blip r:embed="rId1"/>
          <a:stretch/>
        </p:blipFill>
        <p:spPr>
          <a:xfrm>
            <a:off x="5145120" y="2373480"/>
            <a:ext cx="38098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lorime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technique for determining the specific heat of a sub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calorime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 vessel that is a good insulator which allows a thermal equilibrium to be achieved between substances without any energy loss to the environ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lorimetr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sis performed using a calorime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of energy applies to the isolated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that leaves the warmer substance equals the energy that enters the 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col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-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h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ative sign keeps consistency in the sign convention of Δ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lorimetry with More Than Two Materia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ome cases it may be difficult to determine which materials gain heat and which materials lose he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start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 =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Q = m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don’t have to determine before using the equation which materials will gain or lose he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hase Chang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hase cha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ccurs when the physical characteristics of the substance change from one form to an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phases changes 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id to liquid – mel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quid to gas – boi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changes involve a change in the internal energy, bu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 change in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atent He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ring a phase change, the amount of heat is given 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 = ±m 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 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atent hea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the sub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tent means hid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 depends on the substance and the nature of the phase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a positive sign if you are adding energy to the system and a negative sign if energy is being removed from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GIF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. The temperature at which the Fahrenheit scale reading is twice that of the Celsius scale reading i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16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3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-3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atent Heat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 units of latent heat are J / k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atent heat of fus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is used for melting or freez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atent heat of vaporiza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is used for boiling or conden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 11.2 gives the latent heats for various substa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blim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substances will go directly from solid to gaseous ph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out passing through the liquid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proces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ubli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will be a latent heat of sublimation associated with this phase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raph of Ice to Stea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5" name="Picture 4" descr="1103"/>
          <p:cNvPicPr/>
          <p:nvPr/>
        </p:nvPicPr>
        <p:blipFill>
          <a:blip r:embed="rId1"/>
          <a:stretch/>
        </p:blipFill>
        <p:spPr>
          <a:xfrm>
            <a:off x="179280" y="190980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rming I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51051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with one gram of ice at –30.0º 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uring A, the temperature of the ice changes from –30.0º C to 0º 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Q = m c Δ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add 62.7 J of ener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5410080" y="1295280"/>
          <a:ext cx="29592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295280"/>
                    <a:ext cx="29592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lting I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81024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at 0º C, the phase change (melting)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temperature stays the same although energy is still being add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Q = m 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eds 333 J of energ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5715000" y="762120"/>
          <a:ext cx="26798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762120"/>
                    <a:ext cx="2679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Warming Wa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ween 0º C and 100º C, the material is liquid and no phase changes take p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ergy added increases the tempera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Q = m c Δ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19 J of energy are add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6248520" y="838080"/>
          <a:ext cx="259056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838080"/>
                    <a:ext cx="25905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oiling Wa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100º C, a phase change occurs (boil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erature does not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Q = m Lv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260 J of energy are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0" name="Object 7"/>
          <p:cNvGraphicFramePr/>
          <p:nvPr/>
        </p:nvGraphicFramePr>
        <p:xfrm>
          <a:off x="5145120" y="2849400"/>
          <a:ext cx="3809880" cy="24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849400"/>
                    <a:ext cx="3809880" cy="24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eating Stea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52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fter all the water is converted to steam, the steam will heat u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phase change occu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ded energy goes to increasing the tempera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Q = m c Δ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raise the temperature of the steam to 120°, 40.2 J of energy are need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7238880" y="533520"/>
          <a:ext cx="140976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533520"/>
                    <a:ext cx="140976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Strateg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a 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lumn for each quant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ow for each phase and/or phase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a final column for the combination of quant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consistent un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oblem Solving Strategie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y Conservation of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ers in energy are given as Q=mcΔT for processes with no phase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Q = m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Q = m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there is a phase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c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-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h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e careful of 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ΔT is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ve for the unknow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as Attack?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.0 liter of a gas at STP expands to 1.5 liters and 1.2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. The final temperature of the gas is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33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73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26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07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thods of Heat Transf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to know the rate at which energy is transfer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to know the mechanisms responsible for the transf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hods inclu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du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ransfer can be viewed on an atomic sc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an exchange of energy between microscopic particles by coll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 energetic particles gain energy during collisions with more energetic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e of conduction depends upon the characteristics of the sub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duction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4459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lecules vibrate about their equilibrium pos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les near the stove coil vibrate with larger amplitu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collide with adjacent molecules and transfer some ener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tually, the energy travels entirely through the pan and its hand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7" descr="1104"/>
          <p:cNvPicPr/>
          <p:nvPr/>
        </p:nvPicPr>
        <p:blipFill>
          <a:blip r:embed="rId1"/>
          <a:stretch/>
        </p:blipFill>
        <p:spPr>
          <a:xfrm>
            <a:off x="5145120" y="2658960"/>
            <a:ext cx="380988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duction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, metals are good condu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contain large numbers of electrons that are relatively free to move through the me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can transport energy from one region to an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ion can occur only if there is a difference in temperature between two parts of the conducting med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duction,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lab allows energy to transfer from the region of higher temperature to the region of lower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1471680" y="5548320"/>
          <a:ext cx="330516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5548320"/>
                    <a:ext cx="33051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Picture 8" descr="1105"/>
          <p:cNvPicPr/>
          <p:nvPr/>
        </p:nvPicPr>
        <p:blipFill>
          <a:blip r:embed="rId3"/>
          <a:stretch/>
        </p:blipFill>
        <p:spPr>
          <a:xfrm>
            <a:off x="5160960" y="2017800"/>
            <a:ext cx="3778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duction, equation explan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is the cross-sectional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 = Δx is the thickness of the slab or the length of a r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 is in Watts when Q is in Joules and t is in seco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 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ermal conductiv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the mater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table 11.3 for some condu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conductors have high k values and good insulators have low k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 Insul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bstances are rated by their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 valu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 = L / 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table 11.4 for some R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multiple layers, the total R value is the sum of the R values of each lay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nd increases the energy loss by conduction in a h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duction and Insulation with Multiple Materia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portion will have a specific thickness and a specific thermal condu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te of conduction through each portion is eq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ultiple Material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te through the multiple materials will 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the temperatures at the outer extremities of the compound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Object 0"/>
          <p:cNvGraphicFramePr/>
          <p:nvPr/>
        </p:nvGraphicFramePr>
        <p:xfrm>
          <a:off x="1752480" y="3048120"/>
          <a:ext cx="4359240" cy="14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435924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ve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ergy transferred by the movement of a sub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movement results from differences in density, i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atural con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movement is forced by a fan or a pump, i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orced conv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Transf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wo objects of different temperatures are placed in thermal contact, the temperature of the warmer decreases and the temperature of the cooler incre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exchange ceases when the objects reach thermal equilibr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cept of energy was broadened from just mechanical to include inter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de Conservation of Energy a universal law of n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vection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 directly above the flame is warmed and expa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nsity of the air decreases, and it r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ss of air warms the hand as it moves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7" descr="1109"/>
          <p:cNvPicPr/>
          <p:nvPr/>
        </p:nvPicPr>
        <p:blipFill>
          <a:blip r:embed="rId1"/>
          <a:stretch/>
        </p:blipFill>
        <p:spPr>
          <a:xfrm>
            <a:off x="5383080" y="2017800"/>
            <a:ext cx="333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vection applic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iling 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wel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oling automobile eng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gal blooms in ponds and lak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vection Current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diator warms the air in the lower region of the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rm air is less dense, so it rises to the cei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nser, cooler air si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ntinuous air current pattern is set up as sh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1110"/>
          <p:cNvPicPr/>
          <p:nvPr/>
        </p:nvPicPr>
        <p:blipFill>
          <a:blip r:embed="rId1"/>
          <a:stretch/>
        </p:blipFill>
        <p:spPr>
          <a:xfrm>
            <a:off x="5145120" y="2381400"/>
            <a:ext cx="38098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di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diation does not require physical cont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objects radiate energy continuously in the form of electromagnetic waves due to thermal vibrations of th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e of radiation is given b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tefan’s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diation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lectromagnetic waves carry the energy from the fire to the ha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physical contact is necess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be accounted for by conduction or conv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7" descr="1112"/>
          <p:cNvPicPr/>
          <p:nvPr/>
        </p:nvPicPr>
        <p:blipFill>
          <a:blip r:embed="rId1"/>
          <a:stretch/>
        </p:blipFill>
        <p:spPr>
          <a:xfrm>
            <a:off x="3297240" y="2017800"/>
            <a:ext cx="354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adiation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ower is the rate of energy transfer, in Wat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σ = 5.669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is the surface area of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is a constant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miss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 varies from 0 to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 is the temperature in Kelv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1" name="Object 0"/>
          <p:cNvGraphicFramePr/>
          <p:nvPr/>
        </p:nvGraphicFramePr>
        <p:xfrm>
          <a:off x="1600200" y="1905120"/>
          <a:ext cx="2679840" cy="77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267984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nergy Absorption and  Emission by Radi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its surroundings, the rate at which the object at temperature T with surroundings at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radiates 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n object is in equilibrium with its surroundings, it radiates and absorbs at the same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s temperature will not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5" name="Object 0"/>
          <p:cNvGraphicFramePr/>
          <p:nvPr/>
        </p:nvGraphicFramePr>
        <p:xfrm>
          <a:off x="1981080" y="3505320"/>
          <a:ext cx="358164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505320"/>
                    <a:ext cx="358164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deal Absorbe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deal absorb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defined as an object that absorbs all of the energy incident on 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=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type of object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black bod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ideal absorber is also an ideal radiator of ener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deal Reflecto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ideal reflector absorbs none of the energy incident on 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=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 of Radi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t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ack fabric acts as a good absor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te fabric is a better refl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mograp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mount of energy radiated by an object can be measured with a thermograp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dy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diation thermometer measures the intensity of the infrared radiation from the eardr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eat Compared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n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to distinguish between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not interchange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y mean very different things when used in phys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sisting Energy Transf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8373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war flask/thermos bott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ed to minimize energy transfer to surround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ce between walls is evacuated to minimize conduction and conv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lvered surface minimizes rad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ck size is redu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7" descr="1115"/>
          <p:cNvPicPr/>
          <p:nvPr/>
        </p:nvPicPr>
        <p:blipFill>
          <a:blip r:embed="rId1"/>
          <a:stretch/>
        </p:blipFill>
        <p:spPr>
          <a:xfrm>
            <a:off x="5886360" y="2017800"/>
            <a:ext cx="232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lobal Warm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eenhouse ex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ible light is absorbed and re-emitted as infrared ra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ction currents are inhibited by the g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th’s atmosphere is also a good transmitter of visible light and a good absorber of infrared radi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3,5,8,13,15,21,23,31,3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n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ternal Energ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U, is the energy associated with the microscopic components of th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kinetic and potential energy associated with the random translational, rotational and vibrational motion of the atoms or molec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includes any potential energy bonding the particles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e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Hea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transfer of energy between a system and its environment because of a temperature difference between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ymbol Q is used to represent the amount of energy transferred by heat between a system and its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ts of He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or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historical unit, before the connection between thermodynamics and mechanics was recogniz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alori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amount of energy necessary to raise the temperature of 1 g of water from 14.5° C to 15.5° C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alorie (food calorie) is 1000 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its of Heat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 Customary Unit – BT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TU stands for British Thermal Un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TU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amount of energy necessary to raise the temperature of 1 lb of water from 63° F to 64° 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 cal = 4.186 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echanical Equivalent of He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1T22:41:27Z</dcterms:created>
  <dc:creator>Marilyn Akins</dc:creator>
  <dc:description/>
  <dc:language>en-US</dc:language>
  <cp:lastModifiedBy>gandella</cp:lastModifiedBy>
  <dcterms:modified xsi:type="dcterms:W3CDTF">2009-11-13T12:41:22Z</dcterms:modified>
  <cp:revision>20</cp:revision>
  <dc:subject/>
  <dc:title>Chapter 11</dc:title>
</cp:coreProperties>
</file>